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C695-0521-4812-8F18-3E6A5F5B6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41EA-B85C-43C2-A7FD-B73DDD17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EEC44-B846-435C-AC60-D743732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693CCC-ECA9-426F-A3DC-3A106B11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903B97-BB94-411A-9FCC-4B61493D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263A2C-5541-4A4B-ADB2-8AB3C295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F05A1B-C68E-4ECB-8866-1B6C8D09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5F0F65-ABCD-41CB-84FB-77D39BDF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B897B5-1AD7-4243-BD3C-9F773626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0C7617-2834-427D-B22D-EE8F8E2D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1578C-9DE3-4616-9E87-F841AA750B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E05E-B174-48C6-B1D9-F99772EED2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F14C-63D9-48A9-A6CA-395C2AE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1FE91-BDC8-4F90-A93F-4E4E1299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BBBC-69C7-4EC4-91F4-6DDC16A4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EC16-6E8B-4AAB-8036-E8BAB5A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15A61-24F1-429D-9B93-DF48E988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C3661-F17D-4D6B-9C62-C4B46D01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01FA-7A0E-40D4-BD9D-B3F20ECC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ACD1-D20D-4B5C-BB67-E8A0A808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02265-81EC-4B4A-A935-2DE91ED6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CFA5-A6C1-4211-838E-9FFFD45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F98E-487C-4821-B59C-96CE3BF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15FA-7394-40BE-9F86-2D55E855F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F4AE1-B831-49AC-93EC-2407FA136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70897B-FDB1-4687-A8DD-962B2EF624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9AB02C-0CF6-4F8F-857A-3D92A597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7C05C8-B37D-489E-85EF-9026E661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447FB-4E58-46F7-BE70-2376274E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E540D2-0034-4249-8F5D-F539E2A6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B68966-EDD6-4318-AAEF-559054D1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4BA06-8530-4EA6-BDC4-A2A86B02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59010-642B-49C7-BF0A-AF6000A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83B404-D146-4ABE-B9FC-9C6CD546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9DC27-84FE-4C94-AB1F-82BE0952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3F7FE-AC09-4FFB-818A-1E9BFFC0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937B8-2560-434F-9B7C-C4A007D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A733CC-E46D-42C1-BD12-09E821AEA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0261F-F93E-4500-904A-35CA2CA71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DEF93-386B-4D79-8571-9E2B28CF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A7FDA-5617-46E2-9084-E6ACF9E3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22E7A-F306-4D59-A0AD-43D22823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0F53D-0485-4EB9-9A61-CFCFBFD1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0466D-1904-4A32-A18F-895B0E76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654D8-1A55-42C9-900C-6FBA60B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8242-AB09-442F-8B06-ECF24663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1E5DD-FCEF-4C54-B517-63A60FBA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739BF-FCD1-47A7-8D16-713ABFAC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53F55-E929-481C-B7EC-A10851E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A58CF-B6FD-4D24-80A2-1677A11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A9FB0-5E0D-45CC-A76F-97E55FFD56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2EE48-EA57-4E2A-A136-56FC05474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6A640-3FDB-4220-98C1-E988DC9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1731-3D3A-4987-B8C4-DD736A29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6251-C2C6-4ACB-B6C1-1EF9F0EE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FD5EA-9E36-417D-970F-229B3C0F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C77F8-1624-47EF-9239-6D6B5B8D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B4693-9360-4AB3-A0E7-ECD955C3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73F27-1DD5-4173-A3A7-3969CDF5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FBB8B-E1EB-460E-8CFC-8A7BCEDC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C6AC2-A8BD-4704-B8E9-94C08AE4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215F-5413-45C1-8DC8-1070D778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D2081-5D4C-4C71-94D8-376F8CC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B09AB-BBB3-439C-A42C-8AE211485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A37ED-3305-4F08-B313-FB178AD3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7122E-5F0E-4DAF-89A9-A7A5D3F1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92EF4-D294-4096-9F3F-75CC2A5A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6A3E5-B98E-41A3-A347-2552488F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C78D1-D0AA-450B-8BBD-44F53F70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761A8-ABE1-4DB8-9E56-B84B8E59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1497B-B948-46D2-9224-68273766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F7A75-0FD4-48F8-854D-519D8B4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E8DA5-AC40-4B97-8178-3A6C7C2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E0E42-4C45-4E60-846D-F6E18E1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00056-FAA2-40B7-8575-C7E4E8C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D0FB6-27E3-44EB-9033-69CAB964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EFC7A-FA10-4511-89EA-8ABABAB1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9F2CC-43F9-466D-82F7-3939F656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DCDB-156E-4FC4-AC80-8E8CF590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CBB85-E5F0-4315-B124-D8BE7939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2FCF-C6CC-4993-9C51-20C2C880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E66A-734F-4CDE-8D40-35F353C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71A42-9D96-4486-80E2-71E1AE40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2B6FF-5B3D-4DD6-9950-675662EE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F53B-4F05-4908-9CE2-80628A1B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73923-A9F9-4085-9702-68770C45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140A-C237-45E4-B6B2-53D6318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EA801-BAA2-4E9E-B55C-232F18D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B4217-1637-48C4-8DFB-F4A0AB4D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0198-E692-4F73-9ACD-0F7DB422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85417-FA2C-4B5F-BF57-189D2519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59D77-E4A4-4AA5-BEC3-9C97CC7D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EA3F8-C15C-41F1-8EDE-9E0CD98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9BE24-B61A-4033-8DCF-03C767DD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587BF-2CE7-4A42-9142-76B631C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4B39A-8AE5-4BF1-ABE7-C1B8A8E1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0A784-31ED-40E1-846A-93CEE32D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130B1-F73F-468D-8B82-366465C3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22BCF-3D77-494E-A551-0B1D2F7F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08444-58E5-4D28-8115-A2D4A737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3FF6-65D2-40EE-A00C-AA6F4B8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D0466-4AFB-42B7-A31D-23B5E6BC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6F569-58DD-4687-B66C-7F7DFBED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4C9D2-30A8-4C34-BB6B-E6F7282C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2DA67-D9A8-47EC-B9FF-F44704DB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E2C9F-4660-4919-ADC0-6EDA8B4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90A68-739D-49CB-BFAF-59501448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59275-EA91-4ED6-B280-D963B2C5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F884E-932C-4271-87D7-93EC42B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235AF-842A-4B9C-A1C9-7293DE2D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29574-3914-4E3D-97A9-351337D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DB93-2BC1-42FD-ACAA-B97C36D2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2EA53-6C8D-4EF4-A17D-85415B6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2A477-83CD-4EF1-AA5D-8984736A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76596-0990-4B7F-AE03-F529C87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538F3-FC89-4DF3-A0E0-78B94D7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C1669-3B3C-45F5-A385-AD05205C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2BE3E-EF70-4BA8-8EB7-FF3E2ED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D63CF-0C48-4D68-9F1E-630A230C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06CD7-DDE9-4092-923D-150EF284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67EAF-4653-4741-BB58-69AAADF7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50E05-ACA1-4B75-8DBF-AF9E791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BDD25-7310-49F0-A94C-6ADD9E1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B0A31-F4DA-4E3B-868C-B468D27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C6301-868B-469B-86A5-E02263DC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A728B-F2F1-4E1A-9F41-BF224A0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2FE20-F628-4BC9-AA79-7AF579C0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EC6C3-7761-433E-AF6D-C628145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D8A0C-A3DC-4D6B-B972-68DC45F9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E798F-61BD-42A4-A96A-C8D334FA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EA214-B903-4999-BE01-9E053126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B87FD-0345-4562-820C-D3BF10DC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FC5E0-1088-44C7-B2BA-5BE4569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2C231-ACF7-411C-9200-313F0E67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F85DC-2F75-4E4B-ABFE-7F6757F9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DACD0-F8A3-4666-8435-D76E0C78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6D631-F8A4-4253-B267-5E34ECC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C3FE7-750B-4FB5-9AB2-80FA8CF4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75724-DD0F-4E52-AB3F-CD3DED8B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C4FF2-AC8C-40DC-9AD4-29B4A8D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A99EE-8C33-40BE-8C5D-CBEB9FB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0AE3A-1D03-49A3-9B94-669AD4C6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E5496-2B0D-49D7-8A97-E0486F07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BCD5D-89B7-447B-A63E-2A459E42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20D46-F25F-44A4-9548-33B1A770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5AA3A-D0EF-4782-BDCB-4C672FD6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9DC6F-D769-4968-BBB7-A89082E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C1CEA-046B-451D-948D-C3772003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502FC-5C69-4D6F-A80B-A909446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16452-2B37-4C8F-B7D4-F89091D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049F6-F019-4BC3-9D67-42370329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1A9CD-1DB2-47DD-B69E-EC50317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BA4B2-74A1-4792-B0B0-EE87642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7541D-068A-4F64-ABA1-BD17699A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86658-B5B1-4B35-9978-287E579C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8F85B-629B-4139-8FAB-D385E1F7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56D12-8AE1-4E19-8024-D1AEB845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224044-01F6-46B9-890E-6AF4C1C2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AA0A5-00FA-4000-81C4-FDED9322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8A838-8F0F-4A8A-BD04-5CB8042B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5AD1A-95E8-4598-B824-70CCA9A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8E711-7413-4B4E-B2B9-91F43A43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B0828-8CD9-4FD5-BC56-46BC7DEC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78A07-8104-451F-A838-D3AA333D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67D72-BCC0-4C31-B523-BAC0C7A8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DF10D-85CE-4CFC-BA78-D8922C21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471F2-4399-4E6B-ACBE-91C4790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8BB0A-9B98-47C5-B6F5-056270DB3B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AF13C-CD4C-433F-95E6-D27FC01F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3DC97-9CDD-4081-A27C-08BCE9FB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0C138-CFA8-4A89-9182-B1C77F57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02365-56BC-4CDA-AF99-EF1AD5E1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78F31-A132-4107-9310-A83064E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E3B26-3F77-435D-9F6E-706004CF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6637C-DA70-4298-94E7-FC2EE36A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69CE7-E2A5-494B-BE27-D58E3A28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86187-F3BC-476F-9C95-CC5FE5B6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A6630-6109-4BEF-9FC2-56DC12E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575BC-CB17-42CC-B8FA-0622DDCA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7BE01-1DD9-48AB-88E8-5B35F61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34BE3-EFA2-4EAC-803D-2349BE9E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3E12C-EDBB-4EC3-8FB0-D1CA15EA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FFD74-C05C-4FDF-81B3-E83A2A5B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9BC09-38DF-4A73-854D-CA95BDC7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7EE84-EC0A-4D60-BE38-BD3BE4A0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668155-0994-4331-B8F9-D904B04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F4DDA-2687-4724-83A4-B83D9DF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26B39-5E5A-42E5-BFB7-4948E607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24361-2D9B-432C-BD1E-8F4ACE3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C2B6F-F431-4E33-8D3F-613235D2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2DD95-2B88-4525-A8B8-75920D83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EFA61-75B8-4C0D-AFC9-8E4711E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D668E-5762-4E7F-9DA3-CE64CA7F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F21FA-437A-4CB2-8D9D-3950AFE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5B52F-3678-40D2-9951-E006A80F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E45EA8-753C-4D59-9FB1-FEC9B126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9B50B-A527-4361-BDCC-4AF7E6E6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29A37-0B38-4BA5-99A3-A3C216E6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6DA09-C6F7-4ABE-A319-2E59CEB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C2D0C4-64A2-4B27-8EFA-99BE628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3170CA-CC70-435A-A807-245C506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A3D86-8763-4045-8EE1-1259317E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54C53B-6194-4A3B-8937-735EB20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17BFB-355F-4EBB-BED4-729CB003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BEF48-7402-4E47-9796-5297F96F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EE4CC-AAE9-4AFD-B4C6-51A1B3E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47F4C-B73A-4E37-894D-DFF12F98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37B5A-4EC3-455A-A1F0-7094C14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F0F37-B4AF-48D5-BF2E-5587C08F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4841B-9ED9-4AE5-8B6E-4ED551EF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2972A-8B95-4995-A4CA-BA4F4877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D2B1-5E5A-4169-87AD-5CD4036A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E9E3E-B762-4E15-BAD1-B50786E5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14D1A-0D68-41A1-910E-2CE71287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08FF35-00B4-4793-8D11-2350DC9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2062A-0101-4708-8D01-A6446AEA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5CE9D-4878-4ED2-9ABC-ADF042DE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D7AED-CF35-4D93-8FFB-BB39D8D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5C4D8-9721-4D1D-8F72-6023C954D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D46B-4AD9-492A-8AEA-4149FBB9A0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D23E-EC87-4099-A5A7-ED520CC4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CF56-C38D-40D1-94CA-C2336831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FF88-C1C5-4F51-B2B8-1E0473F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1DBE-2EF3-4BDE-83EF-A7AC3024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B968-8B0C-4257-BE00-22E69903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529E-7872-43A4-86FF-7F9FBFF4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A686-DF0A-45A8-B24B-66D5CB8A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09CB4-69F8-4C14-A679-25830B1E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6106-765F-4E5D-B78A-28E1D47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E2D6-73AC-4323-8817-22B25C4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C15E-9653-4631-B0C0-65F2232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24CE-79CF-4A41-A1BB-5FEC9FA1E5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35801-33F1-46CA-9E38-B8C1056196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340C-7B47-4429-9B7F-129393B2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EB04C-C6C7-4ACC-905F-C4301A9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DF9B8-3FA8-4E6F-B3A5-F553C8FF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3D88EE-3894-429D-A17F-18E76F94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FD16C-D52D-499F-B3AF-4DE934EB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7CF09-D92B-492C-9C19-847BD88D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4A224-A9DE-47E8-9DDC-1286257E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EA791-CC16-4987-BFFD-B80F269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F6FB0-7541-4C1C-B495-BE9F15E9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BEFEA-98CE-4BC7-BF07-BA550695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189E1B-DD29-4EC9-B107-4539F1B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8A84-4F0A-4D91-B938-3D833DE1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C11F1-7825-451C-8F6C-55BAD0EE0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56E0A-36D4-4725-9127-5F979F587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82C53-E718-4F4D-BA17-5916BBD3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AD7AC-C32D-4C57-8786-07D1F6D5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4604C-FEE0-491A-BBE4-F6403FAB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7B6517-4C28-4D72-9A7D-4D8770B3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5DEDE-F73C-4F7E-B5D9-3F2A9DF0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2EDE65-D96E-446A-9519-D50A8349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F6F049-6A06-4B0A-B648-EF689793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F0EC14-CF1D-44DA-A0F5-6CEDE129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6CBD-A761-4720-9FBE-B9E9AB6D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2CF7C-EF50-449E-A628-96F9E4B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33965-C1A3-4553-AA95-389A737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9D8277-1017-41B4-AEC1-B23F1726C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25EC-05EE-452C-8652-74262E638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0BEF-7F5B-46D8-B1B2-73A20E0C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F51AA-D7C5-4350-90DA-51A16638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76104-4018-4EF6-AB85-4480F98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A336-D8B3-4546-8732-BA3E98F5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F7B9-6476-4D5A-9548-C254747C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8368-D2BB-42B5-82F0-71997985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0C6E8-97ED-4ECC-AC6C-70911BCB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3831-452E-479D-92B3-4FE86C9B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DB1B-E8A5-4985-8E21-27A1B83F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9837-CE3A-4732-ADAB-93D8F00D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1DB4A-14E3-4A1C-8B7A-00B24346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E1A36-9E10-4815-BD90-70C7DED55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3A716-9D4B-41EF-8E35-3FB76C487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C1232-B9CC-4BDE-B970-E9A201C7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BD2B8-EA95-4B91-89C1-C569B4E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B66D9-E5EC-4292-A917-5B9076C5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ECE47-4105-43F0-8A6D-B83E397D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4BB1-74F4-486E-A0A5-53858AFE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98EC3-459A-4982-AB8A-B7B4B75A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9D721C-AF39-4336-B6E4-A9D04E4F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D7A58-7E76-47A2-B943-414C1F6C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7BDF4-797B-4E88-8DE7-C451E25D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60053-ABEB-4834-896B-0BD79578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46466-7014-4EE5-ABF3-A104D19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59E25-07ED-4667-B78B-2F47E67D9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FBDB56-F4BA-411F-A85F-29B6E8617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C79E1B-6490-4DC3-941D-5B9C6237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0F236A-9B87-4922-B7C5-7E5329F0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4543-9C2E-4BD2-BFF8-9C9952A441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539-982D-412E-AD0F-592E47D9DD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FCEE-C0BD-43F0-8C2A-8A855520E3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A73D-79F4-40BC-8A24-9FBC06EC9F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D86-6B8C-4352-91BE-68A7E0C931F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00E9-483A-4BC5-BA36-FCBB6130B3C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EEFE-8F97-4D76-9F2A-C7598D252C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0FC-20EE-41E3-A28C-DD11A4684B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CFA-E073-4D6A-B5A2-75A696A177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F77-05A6-4D42-83FC-FB9C4239DE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81A-78F9-4AD6-954D-8702FA4D4FD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21B6-87FD-4BBF-A07D-40BB7C05ED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8FE0-4C3D-44F5-828B-4698A5224A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C7A-170D-4179-BD35-7956ECC4D3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89D5-EA08-48EB-B386-3445F04D41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605F-74B8-48C0-BABC-B5F7739C30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ED6-0F07-42B0-AE28-9C0E69B359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755A-1862-479F-B045-1B1D849C1B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62A-CEB6-4173-BDA2-20BA98A171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CA9C-90C1-49A8-8047-D492694412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A758-0754-4FFD-907E-7CCA3C42CB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D9B-CFDF-4163-86B8-7949152B84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CF0-C8D1-4F14-87F8-903E089A9F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118D-DF3B-4A09-9C01-271E758B31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1924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平 行 四 边 形 的 认 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9760" y="17445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行四边形和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4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32"/>
          <p:cNvSpPr/>
          <p:nvPr/>
        </p:nvSpPr>
        <p:spPr>
          <a:xfrm>
            <a:off x="210960" y="113508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平行四边形一条边上的一点到对边引一条垂线，这点和垂足之间的线段叫做平行四边形的高，垂足所在的边叫做平行四边形的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平行四边形的特征：两组对边分别平行且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1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7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99"/>
          <p:cNvSpPr/>
          <p:nvPr/>
        </p:nvSpPr>
        <p:spPr>
          <a:xfrm>
            <a:off x="425520" y="1054080"/>
            <a:ext cx="8078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判一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行四边形一定能分成两个完全一样的梯形。          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梯形的底和高一定是垂直的。                        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三角形具有稳定性的特点，而平行四边形却有容易变形的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梯形是只有一组对边平行的四边形。                  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文本框 1"/>
          <p:cNvSpPr/>
          <p:nvPr/>
        </p:nvSpPr>
        <p:spPr>
          <a:xfrm>
            <a:off x="7466040" y="163836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文本框 2"/>
          <p:cNvSpPr/>
          <p:nvPr/>
        </p:nvSpPr>
        <p:spPr>
          <a:xfrm>
            <a:off x="7464600" y="2117880"/>
            <a:ext cx="2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文本框 3"/>
          <p:cNvSpPr/>
          <p:nvPr/>
        </p:nvSpPr>
        <p:spPr>
          <a:xfrm>
            <a:off x="7448400" y="301788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文本框 4"/>
          <p:cNvSpPr/>
          <p:nvPr/>
        </p:nvSpPr>
        <p:spPr>
          <a:xfrm>
            <a:off x="7504200" y="349236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4986360" cy="525600"/>
            <a:chOff x="0" y="101520"/>
            <a:chExt cx="498636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246600" y="101520"/>
              <a:ext cx="4739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666360" cy="273600"/>
              <a:chOff x="0" y="196560"/>
              <a:chExt cx="66636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77920" y="349920"/>
                <a:ext cx="105480" cy="13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040" y="284760"/>
                <a:ext cx="238320" cy="7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77920" y="214920"/>
                <a:ext cx="105480" cy="13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040" y="206640"/>
                <a:ext cx="23832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5920"/>
                <a:ext cx="588600" cy="6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76480"/>
                <a:ext cx="588600" cy="6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16000"/>
                <a:ext cx="588600" cy="6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588600" cy="69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1459800" y="11736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，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3" descr="93"/>
          <p:cNvPicPr/>
          <p:nvPr/>
        </p:nvPicPr>
        <p:blipFill>
          <a:blip r:embed="rId8"/>
          <a:stretch/>
        </p:blipFill>
        <p:spPr>
          <a:xfrm>
            <a:off x="450720" y="1538280"/>
            <a:ext cx="8267760" cy="157968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4"/>
          <p:cNvSpPr/>
          <p:nvPr/>
        </p:nvSpPr>
        <p:spPr>
          <a:xfrm>
            <a:off x="3092040" y="4221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面图中都有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八边形 7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4" name="Rectangle 21"/>
          <p:cNvSpPr/>
          <p:nvPr/>
        </p:nvSpPr>
        <p:spPr>
          <a:xfrm>
            <a:off x="1529280" y="13968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"/>
          <p:cNvSpPr/>
          <p:nvPr/>
        </p:nvSpPr>
        <p:spPr>
          <a:xfrm>
            <a:off x="1340280" y="145404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平行四边形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4"/>
          <p:cNvGrpSpPr/>
          <p:nvPr/>
        </p:nvGrpSpPr>
        <p:grpSpPr>
          <a:xfrm>
            <a:off x="934920" y="2168640"/>
            <a:ext cx="3814560" cy="1780920"/>
            <a:chOff x="934920" y="2168640"/>
            <a:chExt cx="3814560" cy="1780920"/>
          </a:xfrm>
        </p:grpSpPr>
        <p:pic>
          <p:nvPicPr>
            <p:cNvPr id="1027" name="Picture 5" descr="E:\2017秋上·黄倩\其他\人\海豚.jpg海豚"/>
            <p:cNvPicPr/>
            <p:nvPr/>
          </p:nvPicPr>
          <p:blipFill>
            <a:blip r:embed="rId8"/>
            <a:stretch/>
          </p:blipFill>
          <p:spPr>
            <a:xfrm>
              <a:off x="934920" y="2984040"/>
              <a:ext cx="794160" cy="9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Text Box 6"/>
            <p:cNvSpPr/>
            <p:nvPr/>
          </p:nvSpPr>
          <p:spPr>
            <a:xfrm>
              <a:off x="2261520" y="2192040"/>
              <a:ext cx="188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行四边形的对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互相平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AutoShape 7"/>
            <p:cNvSpPr/>
            <p:nvPr/>
          </p:nvSpPr>
          <p:spPr>
            <a:xfrm>
              <a:off x="1653480" y="2168640"/>
              <a:ext cx="3096000" cy="100872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8"/>
          <p:cNvGrpSpPr/>
          <p:nvPr/>
        </p:nvGrpSpPr>
        <p:grpSpPr>
          <a:xfrm>
            <a:off x="5292720" y="2325600"/>
            <a:ext cx="3065040" cy="1438200"/>
            <a:chOff x="5292720" y="2325600"/>
            <a:chExt cx="3065040" cy="1438200"/>
          </a:xfrm>
        </p:grpSpPr>
        <p:pic>
          <p:nvPicPr>
            <p:cNvPr id="1031" name="Picture 9" descr="E:\2017秋上·黄倩\其他\人\蜜蜂.gif蜜蜂"/>
            <p:cNvPicPr/>
            <p:nvPr/>
          </p:nvPicPr>
          <p:blipFill>
            <a:blip r:embed="rId9"/>
            <a:stretch/>
          </p:blipFill>
          <p:spPr>
            <a:xfrm>
              <a:off x="7520040" y="2840040"/>
              <a:ext cx="8377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10"/>
            <p:cNvSpPr/>
            <p:nvPr/>
          </p:nvSpPr>
          <p:spPr>
            <a:xfrm>
              <a:off x="6345360" y="235656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对边也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AutoShape 11"/>
            <p:cNvSpPr/>
            <p:nvPr/>
          </p:nvSpPr>
          <p:spPr>
            <a:xfrm>
              <a:off x="5292720" y="2325600"/>
              <a:ext cx="2303640" cy="648360"/>
            </a:xfrm>
            <a:prstGeom prst="wedgeRoundRectCallout">
              <a:avLst>
                <a:gd name="adj1" fmla="val 41925"/>
                <a:gd name="adj2" fmla="val 7477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12"/>
          <p:cNvSpPr/>
          <p:nvPr/>
        </p:nvSpPr>
        <p:spPr>
          <a:xfrm>
            <a:off x="1257480" y="4352760"/>
            <a:ext cx="6743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组对边分别平行的四边形，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平行四边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Text Box 2"/>
          <p:cNvSpPr/>
          <p:nvPr/>
        </p:nvSpPr>
        <p:spPr>
          <a:xfrm>
            <a:off x="1809360" y="69228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认识平行四边形各部分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3"/>
          <p:cNvSpPr/>
          <p:nvPr/>
        </p:nvSpPr>
        <p:spPr>
          <a:xfrm>
            <a:off x="1407960" y="1268280"/>
            <a:ext cx="295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从平行四边形一条边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一点向对边引一条垂线，这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和垂足之间的线段叫做平行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边形的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垂足所在的边叫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平行四边形的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底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"/>
          <p:cNvSpPr/>
          <p:nvPr/>
        </p:nvSpPr>
        <p:spPr>
          <a:xfrm>
            <a:off x="555480" y="4262400"/>
            <a:ext cx="7256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对于平行四边形你还有哪些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"/>
          <p:cNvSpPr/>
          <p:nvPr/>
        </p:nvSpPr>
        <p:spPr>
          <a:xfrm>
            <a:off x="555480" y="5361120"/>
            <a:ext cx="709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什么是平行四边形的底和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3"/>
          <p:cNvSpPr/>
          <p:nvPr/>
        </p:nvSpPr>
        <p:spPr>
          <a:xfrm>
            <a:off x="5610240" y="1701720"/>
            <a:ext cx="3090960" cy="1451160"/>
          </a:xfrm>
          <a:prstGeom prst="parallelogram">
            <a:avLst>
              <a:gd name="adj" fmla="val 5359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6588000" y="31114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644364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6"/>
          <p:cNvGrpSpPr/>
          <p:nvPr/>
        </p:nvGrpSpPr>
        <p:grpSpPr>
          <a:xfrm>
            <a:off x="6257880" y="1701720"/>
            <a:ext cx="141480" cy="1451160"/>
            <a:chOff x="6257880" y="1701720"/>
            <a:chExt cx="141480" cy="1451160"/>
          </a:xfrm>
        </p:grpSpPr>
        <p:grpSp>
          <p:nvGrpSpPr>
            <p:cNvPr id="1043" name=""/>
            <p:cNvGrpSpPr/>
            <p:nvPr/>
          </p:nvGrpSpPr>
          <p:grpSpPr>
            <a:xfrm>
              <a:off x="6385680" y="1701720"/>
              <a:ext cx="13680" cy="1451160"/>
              <a:chOff x="6385680" y="1701720"/>
              <a:chExt cx="13680" cy="1451160"/>
            </a:xfrm>
          </p:grpSpPr>
          <p:sp>
            <p:nvSpPr>
              <p:cNvPr id="1044" name="Line 7"/>
              <p:cNvSpPr/>
              <p:nvPr/>
            </p:nvSpPr>
            <p:spPr>
              <a:xfrm flipH="1">
                <a:off x="6385680" y="1701720"/>
                <a:ext cx="13320" cy="1451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>
                <a:off x="6386040" y="1701720"/>
                <a:ext cx="13320" cy="145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Group 8"/>
            <p:cNvGrpSpPr/>
            <p:nvPr/>
          </p:nvGrpSpPr>
          <p:grpSpPr>
            <a:xfrm>
              <a:off x="6257880" y="2997360"/>
              <a:ext cx="128160" cy="155160"/>
              <a:chOff x="6257880" y="2997360"/>
              <a:chExt cx="128160" cy="1551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6257880" y="3007080"/>
                <a:ext cx="128160" cy="360"/>
                <a:chOff x="6257880" y="3007080"/>
                <a:chExt cx="128160" cy="360"/>
              </a:xfrm>
            </p:grpSpPr>
            <p:sp>
              <p:nvSpPr>
                <p:cNvPr id="1048" name="Line 9"/>
                <p:cNvSpPr/>
                <p:nvPr/>
              </p:nvSpPr>
              <p:spPr>
                <a:xfrm>
                  <a:off x="6257880" y="3007080"/>
                  <a:ext cx="1281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 txBox="1"/>
                <p:nvPr/>
              </p:nvSpPr>
              <p:spPr>
                <a:xfrm>
                  <a:off x="6257880" y="3007080"/>
                  <a:ext cx="128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257880" y="2997360"/>
                <a:ext cx="360" cy="155160"/>
                <a:chOff x="6257880" y="2997360"/>
                <a:chExt cx="360" cy="155160"/>
              </a:xfrm>
            </p:grpSpPr>
            <p:sp>
              <p:nvSpPr>
                <p:cNvPr id="1051" name="Line 10"/>
                <p:cNvSpPr/>
                <p:nvPr/>
              </p:nvSpPr>
              <p:spPr>
                <a:xfrm>
                  <a:off x="6257880" y="2997360"/>
                  <a:ext cx="0" cy="155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 txBox="1"/>
                <p:nvPr/>
              </p:nvSpPr>
              <p:spPr>
                <a:xfrm>
                  <a:off x="6257880" y="2997360"/>
                  <a:ext cx="360" cy="15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5" descr="72"/>
          <p:cNvPicPr/>
          <p:nvPr/>
        </p:nvPicPr>
        <p:blipFill>
          <a:blip r:embed="rId1"/>
          <a:stretch/>
        </p:blipFill>
        <p:spPr>
          <a:xfrm>
            <a:off x="755640" y="2421000"/>
            <a:ext cx="7378560" cy="1257120"/>
          </a:xfrm>
          <a:prstGeom prst="rect">
            <a:avLst/>
          </a:prstGeom>
          <a:ln w="0">
            <a:noFill/>
          </a:ln>
        </p:spPr>
      </p:pic>
      <p:sp>
        <p:nvSpPr>
          <p:cNvPr id="1054" name="Rectangle 2"/>
          <p:cNvSpPr/>
          <p:nvPr/>
        </p:nvSpPr>
        <p:spPr>
          <a:xfrm>
            <a:off x="468360" y="1271520"/>
            <a:ext cx="8082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下面哪些图形是平行四边形？画出每个平行四边形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7"/>
          <p:cNvGrpSpPr/>
          <p:nvPr/>
        </p:nvGrpSpPr>
        <p:grpSpPr>
          <a:xfrm>
            <a:off x="730080" y="3664080"/>
            <a:ext cx="7587000" cy="459720"/>
            <a:chOff x="730080" y="3664080"/>
            <a:chExt cx="7587000" cy="459720"/>
          </a:xfrm>
        </p:grpSpPr>
        <p:sp>
          <p:nvSpPr>
            <p:cNvPr id="1056" name="矩形 14"/>
            <p:cNvSpPr/>
            <p:nvPr/>
          </p:nvSpPr>
          <p:spPr>
            <a:xfrm>
              <a:off x="730080" y="3664080"/>
              <a:ext cx="175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方正楷体简体"/>
                </a:rPr>
                <a:t>平行四边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矩形 15"/>
            <p:cNvSpPr/>
            <p:nvPr/>
          </p:nvSpPr>
          <p:spPr>
            <a:xfrm>
              <a:off x="2698920" y="3664080"/>
              <a:ext cx="17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方正楷体简体"/>
                </a:rPr>
                <a:t>平行四边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矩形 17"/>
            <p:cNvSpPr/>
            <p:nvPr/>
          </p:nvSpPr>
          <p:spPr>
            <a:xfrm>
              <a:off x="6590880" y="366408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方正楷体简体"/>
                </a:rPr>
                <a:t>平行四边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1"/>
          <p:cNvGrpSpPr/>
          <p:nvPr/>
        </p:nvGrpSpPr>
        <p:grpSpPr>
          <a:xfrm>
            <a:off x="1405080" y="2637000"/>
            <a:ext cx="107640" cy="826920"/>
            <a:chOff x="1405080" y="2637000"/>
            <a:chExt cx="107640" cy="826920"/>
          </a:xfrm>
        </p:grpSpPr>
        <p:sp>
          <p:nvSpPr>
            <p:cNvPr id="1060" name="直接连接符 26"/>
            <p:cNvSpPr/>
            <p:nvPr/>
          </p:nvSpPr>
          <p:spPr>
            <a:xfrm>
              <a:off x="1405080" y="2637000"/>
              <a:ext cx="0" cy="8269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Group 13"/>
            <p:cNvGrpSpPr/>
            <p:nvPr/>
          </p:nvGrpSpPr>
          <p:grpSpPr>
            <a:xfrm>
              <a:off x="1405080" y="3353040"/>
              <a:ext cx="107640" cy="107640"/>
              <a:chOff x="1405080" y="3353040"/>
              <a:chExt cx="107640" cy="10764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1405080" y="3354120"/>
                <a:ext cx="107640" cy="360"/>
                <a:chOff x="1405080" y="3354120"/>
                <a:chExt cx="107640" cy="360"/>
              </a:xfrm>
            </p:grpSpPr>
            <p:sp>
              <p:nvSpPr>
                <p:cNvPr id="1063" name="Line 14"/>
                <p:cNvSpPr/>
                <p:nvPr/>
              </p:nvSpPr>
              <p:spPr>
                <a:xfrm>
                  <a:off x="1405080" y="3354120"/>
                  <a:ext cx="107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 txBox="1"/>
                <p:nvPr/>
              </p:nvSpPr>
              <p:spPr>
                <a:xfrm>
                  <a:off x="1405080" y="3354120"/>
                  <a:ext cx="10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1508040" y="3353040"/>
                <a:ext cx="360" cy="107640"/>
                <a:chOff x="1508040" y="3353040"/>
                <a:chExt cx="360" cy="107640"/>
              </a:xfrm>
            </p:grpSpPr>
            <p:sp>
              <p:nvSpPr>
                <p:cNvPr id="1066" name="Line 15"/>
                <p:cNvSpPr/>
                <p:nvPr/>
              </p:nvSpPr>
              <p:spPr>
                <a:xfrm>
                  <a:off x="1508040" y="3353040"/>
                  <a:ext cx="0" cy="107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 txBox="1"/>
                <p:nvPr/>
              </p:nvSpPr>
              <p:spPr>
                <a:xfrm>
                  <a:off x="1508040" y="3353040"/>
                  <a:ext cx="360" cy="10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8" name="Group 16"/>
          <p:cNvGrpSpPr/>
          <p:nvPr/>
        </p:nvGrpSpPr>
        <p:grpSpPr>
          <a:xfrm>
            <a:off x="3260160" y="2816280"/>
            <a:ext cx="536760" cy="444240"/>
            <a:chOff x="3260160" y="2816280"/>
            <a:chExt cx="536760" cy="444240"/>
          </a:xfrm>
        </p:grpSpPr>
        <p:sp>
          <p:nvSpPr>
            <p:cNvPr id="1069" name="直接连接符 29"/>
            <p:cNvSpPr/>
            <p:nvPr/>
          </p:nvSpPr>
          <p:spPr>
            <a:xfrm flipH="1">
              <a:off x="3260160" y="2816280"/>
              <a:ext cx="536760" cy="3621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0" name="Group 18"/>
            <p:cNvGrpSpPr/>
            <p:nvPr/>
          </p:nvGrpSpPr>
          <p:grpSpPr>
            <a:xfrm>
              <a:off x="3317760" y="3115080"/>
              <a:ext cx="91080" cy="145440"/>
              <a:chOff x="3317760" y="3115080"/>
              <a:chExt cx="91080" cy="14544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3348360" y="3115080"/>
                <a:ext cx="60480" cy="89280"/>
                <a:chOff x="3348360" y="3115080"/>
                <a:chExt cx="60480" cy="89280"/>
              </a:xfrm>
            </p:grpSpPr>
            <p:sp>
              <p:nvSpPr>
                <p:cNvPr id="1072" name="Line 19"/>
                <p:cNvSpPr/>
                <p:nvPr/>
              </p:nvSpPr>
              <p:spPr>
                <a:xfrm>
                  <a:off x="3348720" y="3115080"/>
                  <a:ext cx="60120" cy="89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 txBox="1"/>
                <p:nvPr/>
              </p:nvSpPr>
              <p:spPr>
                <a:xfrm rot="3360000">
                  <a:off x="3324600" y="3159360"/>
                  <a:ext cx="107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317760" y="3199680"/>
                <a:ext cx="90000" cy="60840"/>
                <a:chOff x="3317760" y="3199680"/>
                <a:chExt cx="90000" cy="60840"/>
              </a:xfrm>
            </p:grpSpPr>
            <p:sp>
              <p:nvSpPr>
                <p:cNvPr id="1075" name="Line 20"/>
                <p:cNvSpPr/>
                <p:nvPr/>
              </p:nvSpPr>
              <p:spPr>
                <a:xfrm flipH="1">
                  <a:off x="3317760" y="3199680"/>
                  <a:ext cx="89640" cy="601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 txBox="1"/>
                <p:nvPr/>
              </p:nvSpPr>
              <p:spPr>
                <a:xfrm rot="3360000">
                  <a:off x="3362400" y="3175920"/>
                  <a:ext cx="360" cy="1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7" name="Group 21"/>
          <p:cNvGrpSpPr/>
          <p:nvPr/>
        </p:nvGrpSpPr>
        <p:grpSpPr>
          <a:xfrm>
            <a:off x="7063200" y="2708640"/>
            <a:ext cx="486720" cy="674280"/>
            <a:chOff x="7063200" y="2708640"/>
            <a:chExt cx="486720" cy="674280"/>
          </a:xfrm>
        </p:grpSpPr>
        <p:sp>
          <p:nvSpPr>
            <p:cNvPr id="1078" name="直接连接符 31"/>
            <p:cNvSpPr/>
            <p:nvPr/>
          </p:nvSpPr>
          <p:spPr>
            <a:xfrm flipH="1">
              <a:off x="7063200" y="2708640"/>
              <a:ext cx="486720" cy="6087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9" name="Group 23"/>
            <p:cNvGrpSpPr/>
            <p:nvPr/>
          </p:nvGrpSpPr>
          <p:grpSpPr>
            <a:xfrm>
              <a:off x="7124760" y="3234600"/>
              <a:ext cx="83160" cy="148320"/>
              <a:chOff x="7124760" y="3234600"/>
              <a:chExt cx="83160" cy="14832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7124760" y="3234600"/>
                <a:ext cx="83160" cy="69840"/>
                <a:chOff x="7124760" y="3234600"/>
                <a:chExt cx="83160" cy="69840"/>
              </a:xfrm>
            </p:grpSpPr>
            <p:sp>
              <p:nvSpPr>
                <p:cNvPr id="1081" name="Line 24"/>
                <p:cNvSpPr/>
                <p:nvPr/>
              </p:nvSpPr>
              <p:spPr>
                <a:xfrm>
                  <a:off x="7125120" y="3234600"/>
                  <a:ext cx="82800" cy="694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 txBox="1"/>
                <p:nvPr/>
              </p:nvSpPr>
              <p:spPr>
                <a:xfrm rot="2400000">
                  <a:off x="7112160" y="3269160"/>
                  <a:ext cx="1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7135920" y="3300120"/>
                <a:ext cx="69480" cy="82800"/>
                <a:chOff x="7135920" y="3300120"/>
                <a:chExt cx="69480" cy="82800"/>
              </a:xfrm>
            </p:grpSpPr>
            <p:sp>
              <p:nvSpPr>
                <p:cNvPr id="1084" name="Line 25"/>
                <p:cNvSpPr/>
                <p:nvPr/>
              </p:nvSpPr>
              <p:spPr>
                <a:xfrm flipH="1">
                  <a:off x="7135920" y="3300120"/>
                  <a:ext cx="69120" cy="824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 rot="2400000">
                  <a:off x="7170120" y="3287520"/>
                  <a:ext cx="360" cy="10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8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7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0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7" name="Rectangle 64"/>
          <p:cNvSpPr/>
          <p:nvPr/>
        </p:nvSpPr>
        <p:spPr>
          <a:xfrm>
            <a:off x="409680" y="203040"/>
            <a:ext cx="2921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3"/>
          <p:cNvSpPr/>
          <p:nvPr/>
        </p:nvSpPr>
        <p:spPr>
          <a:xfrm>
            <a:off x="2093040" y="627120"/>
            <a:ext cx="5243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用四根吸管串成一个长方形，然后用两手捏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长方形的两个对角，向相反方向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4"/>
          <p:cNvGrpSpPr/>
          <p:nvPr/>
        </p:nvGrpSpPr>
        <p:grpSpPr>
          <a:xfrm>
            <a:off x="2155680" y="2170080"/>
            <a:ext cx="3785400" cy="1554120"/>
            <a:chOff x="2155680" y="2170080"/>
            <a:chExt cx="3785400" cy="1554120"/>
          </a:xfrm>
        </p:grpSpPr>
        <p:sp>
          <p:nvSpPr>
            <p:cNvPr id="1100" name="矩形 10"/>
            <p:cNvSpPr/>
            <p:nvPr/>
          </p:nvSpPr>
          <p:spPr>
            <a:xfrm>
              <a:off x="3155760" y="2225160"/>
              <a:ext cx="2734920" cy="145080"/>
            </a:xfrm>
            <a:prstGeom prst="rect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11"/>
            <p:cNvSpPr/>
            <p:nvPr/>
          </p:nvSpPr>
          <p:spPr>
            <a:xfrm>
              <a:off x="2219400" y="3547800"/>
              <a:ext cx="2736360" cy="143640"/>
            </a:xfrm>
            <a:prstGeom prst="rect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12"/>
            <p:cNvSpPr/>
            <p:nvPr/>
          </p:nvSpPr>
          <p:spPr>
            <a:xfrm rot="18436200">
              <a:off x="1856160" y="2861640"/>
              <a:ext cx="1809360" cy="144360"/>
            </a:xfrm>
            <a:prstGeom prst="rect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矩形 13"/>
            <p:cNvSpPr/>
            <p:nvPr/>
          </p:nvSpPr>
          <p:spPr>
            <a:xfrm rot="18436200">
              <a:off x="4430880" y="2888640"/>
              <a:ext cx="1809360" cy="144000"/>
            </a:xfrm>
            <a:prstGeom prst="rect">
              <a:avLst/>
            </a:prstGeom>
            <a:solidFill>
              <a:srgbClr val="ff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9"/>
          <p:cNvGrpSpPr/>
          <p:nvPr/>
        </p:nvGrpSpPr>
        <p:grpSpPr>
          <a:xfrm>
            <a:off x="2223720" y="1857240"/>
            <a:ext cx="2737080" cy="1820520"/>
            <a:chOff x="2223720" y="1857240"/>
            <a:chExt cx="2737080" cy="1820520"/>
          </a:xfrm>
        </p:grpSpPr>
        <p:sp>
          <p:nvSpPr>
            <p:cNvPr id="1105" name="矩形 14"/>
            <p:cNvSpPr/>
            <p:nvPr/>
          </p:nvSpPr>
          <p:spPr>
            <a:xfrm rot="5400000">
              <a:off x="1398600" y="2682000"/>
              <a:ext cx="1793880" cy="1443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15"/>
            <p:cNvSpPr/>
            <p:nvPr/>
          </p:nvSpPr>
          <p:spPr>
            <a:xfrm rot="5400000">
              <a:off x="3975480" y="2682000"/>
              <a:ext cx="1793880" cy="1443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16"/>
            <p:cNvSpPr/>
            <p:nvPr/>
          </p:nvSpPr>
          <p:spPr>
            <a:xfrm>
              <a:off x="2224080" y="3534120"/>
              <a:ext cx="2736720" cy="1436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矩形 17"/>
            <p:cNvSpPr/>
            <p:nvPr/>
          </p:nvSpPr>
          <p:spPr>
            <a:xfrm>
              <a:off x="2224080" y="1863360"/>
              <a:ext cx="2736720" cy="1436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Group 14"/>
          <p:cNvGrpSpPr/>
          <p:nvPr/>
        </p:nvGrpSpPr>
        <p:grpSpPr>
          <a:xfrm>
            <a:off x="2194560" y="2658960"/>
            <a:ext cx="4253400" cy="1026000"/>
            <a:chOff x="2194560" y="2658960"/>
            <a:chExt cx="4253400" cy="1026000"/>
          </a:xfrm>
        </p:grpSpPr>
        <p:sp>
          <p:nvSpPr>
            <p:cNvPr id="1110" name="矩形 21"/>
            <p:cNvSpPr/>
            <p:nvPr/>
          </p:nvSpPr>
          <p:spPr>
            <a:xfrm>
              <a:off x="2225520" y="3529080"/>
              <a:ext cx="2736360" cy="144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矩形 18"/>
            <p:cNvSpPr/>
            <p:nvPr/>
          </p:nvSpPr>
          <p:spPr>
            <a:xfrm rot="19800000">
              <a:off x="4725720" y="3100320"/>
              <a:ext cx="1800000" cy="144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矩形 21"/>
            <p:cNvSpPr/>
            <p:nvPr/>
          </p:nvSpPr>
          <p:spPr>
            <a:xfrm>
              <a:off x="3711240" y="2658960"/>
              <a:ext cx="2736720" cy="144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8"/>
            <p:cNvSpPr/>
            <p:nvPr/>
          </p:nvSpPr>
          <p:spPr>
            <a:xfrm rot="19800000">
              <a:off x="2109960" y="3100320"/>
              <a:ext cx="1800000" cy="144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Group 19"/>
          <p:cNvGrpSpPr/>
          <p:nvPr/>
        </p:nvGrpSpPr>
        <p:grpSpPr>
          <a:xfrm>
            <a:off x="428760" y="4162320"/>
            <a:ext cx="4215240" cy="1871280"/>
            <a:chOff x="428760" y="4162320"/>
            <a:chExt cx="4215240" cy="1871280"/>
          </a:xfrm>
        </p:grpSpPr>
        <p:pic>
          <p:nvPicPr>
            <p:cNvPr id="1115" name="Picture 20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>
              <a:off x="428760" y="5097960"/>
              <a:ext cx="770040" cy="9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Text Box 21"/>
            <p:cNvSpPr/>
            <p:nvPr/>
          </p:nvSpPr>
          <p:spPr>
            <a:xfrm>
              <a:off x="1756440" y="4162320"/>
              <a:ext cx="2314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两组对边有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拉成了什么图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22"/>
            <p:cNvSpPr/>
            <p:nvPr/>
          </p:nvSpPr>
          <p:spPr>
            <a:xfrm>
              <a:off x="1044720" y="4162320"/>
              <a:ext cx="3599280" cy="93564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23"/>
          <p:cNvGrpSpPr/>
          <p:nvPr/>
        </p:nvGrpSpPr>
        <p:grpSpPr>
          <a:xfrm>
            <a:off x="5076720" y="4089240"/>
            <a:ext cx="3598560" cy="1959120"/>
            <a:chOff x="5076720" y="4089240"/>
            <a:chExt cx="3598560" cy="1959120"/>
          </a:xfrm>
        </p:grpSpPr>
        <p:pic>
          <p:nvPicPr>
            <p:cNvPr id="1119" name="Picture 24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7877520" y="5169240"/>
              <a:ext cx="79776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Text Box 25"/>
            <p:cNvSpPr/>
            <p:nvPr/>
          </p:nvSpPr>
          <p:spPr>
            <a:xfrm>
              <a:off x="5710680" y="4118760"/>
              <a:ext cx="188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拉成了不同的平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四边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26"/>
            <p:cNvSpPr/>
            <p:nvPr/>
          </p:nvSpPr>
          <p:spPr>
            <a:xfrm>
              <a:off x="5076720" y="4089240"/>
              <a:ext cx="3095640" cy="935640"/>
            </a:xfrm>
            <a:prstGeom prst="wedgeRoundRectCallout">
              <a:avLst>
                <a:gd name="adj1" fmla="val 41509"/>
                <a:gd name="adj2" fmla="val 76662"/>
                <a:gd name="adj3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八边形 7"/>
          <p:cNvSpPr/>
          <p:nvPr/>
        </p:nvSpPr>
        <p:spPr>
          <a:xfrm>
            <a:off x="241200" y="70812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2024280" y="692280"/>
            <a:ext cx="4757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动手操作，我们发现平行四边形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变形。平行四边形的这种特点，在实际生活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广泛的应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3" descr="94"/>
          <p:cNvPicPr/>
          <p:nvPr/>
        </p:nvPicPr>
        <p:blipFill>
          <a:blip r:embed="rId1"/>
          <a:stretch/>
        </p:blipFill>
        <p:spPr>
          <a:xfrm>
            <a:off x="1044720" y="2349360"/>
            <a:ext cx="6788160" cy="1851120"/>
          </a:xfrm>
          <a:prstGeom prst="rect">
            <a:avLst/>
          </a:prstGeom>
          <a:ln w="0">
            <a:noFill/>
          </a:ln>
        </p:spPr>
      </p:pic>
      <p:sp>
        <p:nvSpPr>
          <p:cNvPr id="1125" name="Text Box 4"/>
          <p:cNvSpPr/>
          <p:nvPr/>
        </p:nvSpPr>
        <p:spPr>
          <a:xfrm>
            <a:off x="2625480" y="4365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伸缩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5"/>
          <p:cNvSpPr/>
          <p:nvPr/>
        </p:nvSpPr>
        <p:spPr>
          <a:xfrm>
            <a:off x="7145280" y="4303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升降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6"/>
          <p:cNvSpPr/>
          <p:nvPr/>
        </p:nvSpPr>
        <p:spPr>
          <a:xfrm>
            <a:off x="4415040" y="5310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还见过应用平行四边形这一特性的事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5"/>
          <p:cNvSpPr/>
          <p:nvPr/>
        </p:nvSpPr>
        <p:spPr>
          <a:xfrm>
            <a:off x="3000600" y="1131840"/>
            <a:ext cx="12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四根小棒摆一个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11"/>
          <p:cNvSpPr/>
          <p:nvPr/>
        </p:nvSpPr>
        <p:spPr>
          <a:xfrm>
            <a:off x="1550880" y="2495520"/>
            <a:ext cx="115884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矩形 12"/>
          <p:cNvSpPr/>
          <p:nvPr/>
        </p:nvSpPr>
        <p:spPr>
          <a:xfrm>
            <a:off x="1550880" y="2727360"/>
            <a:ext cx="115884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矩形 13"/>
          <p:cNvSpPr/>
          <p:nvPr/>
        </p:nvSpPr>
        <p:spPr>
          <a:xfrm>
            <a:off x="1552680" y="1990800"/>
            <a:ext cx="193032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14"/>
          <p:cNvSpPr/>
          <p:nvPr/>
        </p:nvSpPr>
        <p:spPr>
          <a:xfrm>
            <a:off x="1552680" y="2238480"/>
            <a:ext cx="193032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10"/>
          <p:cNvGrpSpPr/>
          <p:nvPr/>
        </p:nvGrpSpPr>
        <p:grpSpPr>
          <a:xfrm>
            <a:off x="5614200" y="3741480"/>
            <a:ext cx="2901960" cy="671040"/>
            <a:chOff x="5614200" y="3741480"/>
            <a:chExt cx="2901960" cy="671040"/>
          </a:xfrm>
        </p:grpSpPr>
        <p:sp>
          <p:nvSpPr>
            <p:cNvPr id="1134" name="矩形 11"/>
            <p:cNvSpPr/>
            <p:nvPr/>
          </p:nvSpPr>
          <p:spPr>
            <a:xfrm rot="1800000">
              <a:off x="5557680" y="4044600"/>
              <a:ext cx="1157400" cy="842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矩形 13"/>
            <p:cNvSpPr/>
            <p:nvPr/>
          </p:nvSpPr>
          <p:spPr>
            <a:xfrm>
              <a:off x="6566040" y="4287600"/>
              <a:ext cx="1931040" cy="85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14"/>
            <p:cNvSpPr/>
            <p:nvPr/>
          </p:nvSpPr>
          <p:spPr>
            <a:xfrm>
              <a:off x="5665320" y="3786120"/>
              <a:ext cx="1931040" cy="85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8"/>
            <p:cNvSpPr/>
            <p:nvPr/>
          </p:nvSpPr>
          <p:spPr>
            <a:xfrm rot="1800000">
              <a:off x="7413120" y="4025520"/>
              <a:ext cx="1159200" cy="842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Group 15"/>
          <p:cNvGrpSpPr/>
          <p:nvPr/>
        </p:nvGrpSpPr>
        <p:grpSpPr>
          <a:xfrm>
            <a:off x="3052800" y="3429000"/>
            <a:ext cx="2090880" cy="1142640"/>
            <a:chOff x="3052800" y="3429000"/>
            <a:chExt cx="2090880" cy="1142640"/>
          </a:xfrm>
        </p:grpSpPr>
        <p:sp>
          <p:nvSpPr>
            <p:cNvPr id="1139" name="矩形 9"/>
            <p:cNvSpPr/>
            <p:nvPr/>
          </p:nvSpPr>
          <p:spPr>
            <a:xfrm rot="5400000">
              <a:off x="4555440" y="3962880"/>
              <a:ext cx="1069560" cy="102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10"/>
            <p:cNvSpPr/>
            <p:nvPr/>
          </p:nvSpPr>
          <p:spPr>
            <a:xfrm rot="5400000">
              <a:off x="2571840" y="3945960"/>
              <a:ext cx="1069200" cy="102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矩形 15"/>
            <p:cNvSpPr/>
            <p:nvPr/>
          </p:nvSpPr>
          <p:spPr>
            <a:xfrm>
              <a:off x="3052800" y="4482720"/>
              <a:ext cx="2090880" cy="88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矩形 16"/>
            <p:cNvSpPr/>
            <p:nvPr/>
          </p:nvSpPr>
          <p:spPr>
            <a:xfrm>
              <a:off x="3052800" y="3429000"/>
              <a:ext cx="2090880" cy="88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20"/>
          <p:cNvGrpSpPr/>
          <p:nvPr/>
        </p:nvGrpSpPr>
        <p:grpSpPr>
          <a:xfrm>
            <a:off x="758880" y="3175200"/>
            <a:ext cx="1779480" cy="1648800"/>
            <a:chOff x="758880" y="3175200"/>
            <a:chExt cx="1779480" cy="1648800"/>
          </a:xfrm>
        </p:grpSpPr>
        <p:sp>
          <p:nvSpPr>
            <p:cNvPr id="1144" name="矩形 12"/>
            <p:cNvSpPr/>
            <p:nvPr/>
          </p:nvSpPr>
          <p:spPr>
            <a:xfrm>
              <a:off x="758880" y="3176280"/>
              <a:ext cx="1157760" cy="842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矩形 17"/>
            <p:cNvSpPr/>
            <p:nvPr/>
          </p:nvSpPr>
          <p:spPr>
            <a:xfrm>
              <a:off x="1380240" y="4723920"/>
              <a:ext cx="1158120" cy="85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18"/>
            <p:cNvSpPr/>
            <p:nvPr/>
          </p:nvSpPr>
          <p:spPr>
            <a:xfrm rot="4200000">
              <a:off x="1332000" y="3951000"/>
              <a:ext cx="1719360" cy="96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19"/>
            <p:cNvSpPr/>
            <p:nvPr/>
          </p:nvSpPr>
          <p:spPr>
            <a:xfrm rot="4200000">
              <a:off x="273240" y="3951000"/>
              <a:ext cx="1719360" cy="96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Text Box 25"/>
          <p:cNvSpPr/>
          <p:nvPr/>
        </p:nvSpPr>
        <p:spPr>
          <a:xfrm>
            <a:off x="2340000" y="5121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行四边形的四条边确定了，它的形状能确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26"/>
          <p:cNvSpPr/>
          <p:nvPr/>
        </p:nvSpPr>
        <p:spPr>
          <a:xfrm>
            <a:off x="3030120" y="5689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27"/>
          <p:cNvGrpSpPr/>
          <p:nvPr/>
        </p:nvGrpSpPr>
        <p:grpSpPr>
          <a:xfrm>
            <a:off x="4427640" y="1701720"/>
            <a:ext cx="4419360" cy="1860120"/>
            <a:chOff x="4427640" y="1701720"/>
            <a:chExt cx="4419360" cy="1860120"/>
          </a:xfrm>
        </p:grpSpPr>
        <p:pic>
          <p:nvPicPr>
            <p:cNvPr id="1151" name="Picture 28" descr="000"/>
            <p:cNvPicPr/>
            <p:nvPr/>
          </p:nvPicPr>
          <p:blipFill>
            <a:blip r:embed="rId1"/>
            <a:stretch/>
          </p:blipFill>
          <p:spPr>
            <a:xfrm>
              <a:off x="7812000" y="2421720"/>
              <a:ext cx="103500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Text Box 29"/>
            <p:cNvSpPr/>
            <p:nvPr/>
          </p:nvSpPr>
          <p:spPr>
            <a:xfrm>
              <a:off x="5161320" y="1773360"/>
              <a:ext cx="2161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这四根小棒能围成不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的平行四边形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AutoShape 30"/>
            <p:cNvSpPr/>
            <p:nvPr/>
          </p:nvSpPr>
          <p:spPr>
            <a:xfrm>
              <a:off x="4427640" y="1701720"/>
              <a:ext cx="3600360" cy="1008360"/>
            </a:xfrm>
            <a:prstGeom prst="wedgeRoundRectCallout">
              <a:avLst>
                <a:gd name="adj1" fmla="val 47143"/>
                <a:gd name="adj2" fmla="val 71097"/>
                <a:gd name="adj3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Text Box 31"/>
          <p:cNvSpPr/>
          <p:nvPr/>
        </p:nvSpPr>
        <p:spPr>
          <a:xfrm>
            <a:off x="5783760" y="2720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6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5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9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1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2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3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4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6" name="Rectangle 64"/>
          <p:cNvSpPr/>
          <p:nvPr/>
        </p:nvSpPr>
        <p:spPr>
          <a:xfrm>
            <a:off x="816120" y="179280"/>
            <a:ext cx="1973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Picture 19" descr="73"/>
          <p:cNvPicPr/>
          <p:nvPr/>
        </p:nvPicPr>
        <p:blipFill>
          <a:blip r:embed="rId1"/>
          <a:stretch/>
        </p:blipFill>
        <p:spPr>
          <a:xfrm>
            <a:off x="900000" y="1976400"/>
            <a:ext cx="7321680" cy="2286000"/>
          </a:xfrm>
          <a:prstGeom prst="rect">
            <a:avLst/>
          </a:prstGeom>
          <a:ln w="0">
            <a:noFill/>
          </a:ln>
        </p:spPr>
      </p:pic>
      <p:sp>
        <p:nvSpPr>
          <p:cNvPr id="1168" name="Rectangle 2"/>
          <p:cNvSpPr/>
          <p:nvPr/>
        </p:nvSpPr>
        <p:spPr>
          <a:xfrm>
            <a:off x="509760" y="76212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点子图上画出两个不同的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AutoShape 20"/>
          <p:cNvSpPr/>
          <p:nvPr/>
        </p:nvSpPr>
        <p:spPr>
          <a:xfrm flipH="1">
            <a:off x="6211800" y="2454120"/>
            <a:ext cx="1897200" cy="1047960"/>
          </a:xfrm>
          <a:prstGeom prst="parallelogram">
            <a:avLst>
              <a:gd name="adj" fmla="val 4405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21"/>
          <p:cNvSpPr/>
          <p:nvPr/>
        </p:nvSpPr>
        <p:spPr>
          <a:xfrm>
            <a:off x="3824280" y="2109960"/>
            <a:ext cx="1436760" cy="1723680"/>
          </a:xfrm>
          <a:prstGeom prst="parallelogram">
            <a:avLst>
              <a:gd name="adj" fmla="val 342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22"/>
          <p:cNvSpPr/>
          <p:nvPr/>
        </p:nvSpPr>
        <p:spPr>
          <a:xfrm>
            <a:off x="1008000" y="2446200"/>
            <a:ext cx="1898640" cy="1390680"/>
          </a:xfrm>
          <a:prstGeom prst="parallelogram">
            <a:avLst>
              <a:gd name="adj" fmla="val 3413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7"/>
          <p:cNvGrpSpPr/>
          <p:nvPr/>
        </p:nvGrpSpPr>
        <p:grpSpPr>
          <a:xfrm>
            <a:off x="1708200" y="2452680"/>
            <a:ext cx="148320" cy="1397160"/>
            <a:chOff x="1708200" y="2452680"/>
            <a:chExt cx="148320" cy="1397160"/>
          </a:xfrm>
        </p:grpSpPr>
        <p:sp>
          <p:nvSpPr>
            <p:cNvPr id="1173" name="直接连接符 22"/>
            <p:cNvSpPr/>
            <p:nvPr/>
          </p:nvSpPr>
          <p:spPr>
            <a:xfrm>
              <a:off x="1708200" y="2452680"/>
              <a:ext cx="2880" cy="1397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4" name="Group 9"/>
            <p:cNvGrpSpPr/>
            <p:nvPr/>
          </p:nvGrpSpPr>
          <p:grpSpPr>
            <a:xfrm>
              <a:off x="1711080" y="3691080"/>
              <a:ext cx="145440" cy="145440"/>
              <a:chOff x="1711080" y="3691080"/>
              <a:chExt cx="145440" cy="14544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1711080" y="3692880"/>
                <a:ext cx="145440" cy="360"/>
                <a:chOff x="1711080" y="3692880"/>
                <a:chExt cx="145440" cy="360"/>
              </a:xfrm>
            </p:grpSpPr>
            <p:sp>
              <p:nvSpPr>
                <p:cNvPr id="1176" name="Line 10"/>
                <p:cNvSpPr/>
                <p:nvPr/>
              </p:nvSpPr>
              <p:spPr>
                <a:xfrm>
                  <a:off x="1711080" y="3692880"/>
                  <a:ext cx="145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>
                  <a:off x="1711080" y="3692880"/>
                  <a:ext cx="145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850400" y="3691080"/>
                <a:ext cx="360" cy="145440"/>
                <a:chOff x="1850400" y="3691080"/>
                <a:chExt cx="360" cy="145440"/>
              </a:xfrm>
            </p:grpSpPr>
            <p:sp>
              <p:nvSpPr>
                <p:cNvPr id="1179" name="Line 11"/>
                <p:cNvSpPr/>
                <p:nvPr/>
              </p:nvSpPr>
              <p:spPr>
                <a:xfrm>
                  <a:off x="1850400" y="3691080"/>
                  <a:ext cx="0" cy="145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>
                  <a:off x="1850400" y="3691080"/>
                  <a:ext cx="36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1" name="Group 12"/>
          <p:cNvGrpSpPr/>
          <p:nvPr/>
        </p:nvGrpSpPr>
        <p:grpSpPr>
          <a:xfrm>
            <a:off x="4511880" y="2130480"/>
            <a:ext cx="168120" cy="1705680"/>
            <a:chOff x="4511880" y="2130480"/>
            <a:chExt cx="168120" cy="1705680"/>
          </a:xfrm>
        </p:grpSpPr>
        <p:sp>
          <p:nvSpPr>
            <p:cNvPr id="1182" name="直接连接符 25"/>
            <p:cNvSpPr/>
            <p:nvPr/>
          </p:nvSpPr>
          <p:spPr>
            <a:xfrm>
              <a:off x="4672440" y="2130480"/>
              <a:ext cx="2880" cy="1693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14"/>
            <p:cNvGrpSpPr/>
            <p:nvPr/>
          </p:nvGrpSpPr>
          <p:grpSpPr>
            <a:xfrm>
              <a:off x="4511880" y="3690720"/>
              <a:ext cx="168120" cy="145440"/>
              <a:chOff x="4511880" y="3690720"/>
              <a:chExt cx="168120" cy="145440"/>
            </a:xfrm>
          </p:grpSpPr>
          <p:grpSp>
            <p:nvGrpSpPr>
              <p:cNvPr id="1184" name=""/>
              <p:cNvGrpSpPr/>
              <p:nvPr/>
            </p:nvGrpSpPr>
            <p:grpSpPr>
              <a:xfrm>
                <a:off x="4511880" y="3692520"/>
                <a:ext cx="168120" cy="360"/>
                <a:chOff x="4511880" y="3692520"/>
                <a:chExt cx="168120" cy="360"/>
              </a:xfrm>
            </p:grpSpPr>
            <p:sp>
              <p:nvSpPr>
                <p:cNvPr id="1185" name="Line 15"/>
                <p:cNvSpPr/>
                <p:nvPr/>
              </p:nvSpPr>
              <p:spPr>
                <a:xfrm flipH="1">
                  <a:off x="4511880" y="3692520"/>
                  <a:ext cx="168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 txBox="1"/>
                <p:nvPr/>
              </p:nvSpPr>
              <p:spPr>
                <a:xfrm>
                  <a:off x="4511880" y="3692520"/>
                  <a:ext cx="168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4518720" y="3690720"/>
                <a:ext cx="360" cy="145440"/>
                <a:chOff x="4518720" y="3690720"/>
                <a:chExt cx="360" cy="145440"/>
              </a:xfrm>
            </p:grpSpPr>
            <p:sp>
              <p:nvSpPr>
                <p:cNvPr id="1188" name="Line 16"/>
                <p:cNvSpPr/>
                <p:nvPr/>
              </p:nvSpPr>
              <p:spPr>
                <a:xfrm>
                  <a:off x="4519080" y="3690720"/>
                  <a:ext cx="0" cy="145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 txBox="1"/>
                <p:nvPr/>
              </p:nvSpPr>
              <p:spPr>
                <a:xfrm>
                  <a:off x="4518720" y="3690720"/>
                  <a:ext cx="36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0" name="Group 17"/>
          <p:cNvGrpSpPr/>
          <p:nvPr/>
        </p:nvGrpSpPr>
        <p:grpSpPr>
          <a:xfrm>
            <a:off x="7292880" y="2452680"/>
            <a:ext cx="145800" cy="1059840"/>
            <a:chOff x="7292880" y="2452680"/>
            <a:chExt cx="145800" cy="1059840"/>
          </a:xfrm>
        </p:grpSpPr>
        <p:sp>
          <p:nvSpPr>
            <p:cNvPr id="1191" name="直接连接符 33"/>
            <p:cNvSpPr/>
            <p:nvPr/>
          </p:nvSpPr>
          <p:spPr>
            <a:xfrm>
              <a:off x="7307280" y="2452680"/>
              <a:ext cx="2880" cy="1033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Group 19"/>
            <p:cNvGrpSpPr/>
            <p:nvPr/>
          </p:nvGrpSpPr>
          <p:grpSpPr>
            <a:xfrm>
              <a:off x="7292880" y="3367080"/>
              <a:ext cx="145800" cy="145440"/>
              <a:chOff x="7292880" y="3367080"/>
              <a:chExt cx="145800" cy="14544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7292880" y="3368880"/>
                <a:ext cx="145800" cy="360"/>
                <a:chOff x="7292880" y="3368880"/>
                <a:chExt cx="145800" cy="360"/>
              </a:xfrm>
            </p:grpSpPr>
            <p:sp>
              <p:nvSpPr>
                <p:cNvPr id="1194" name="Line 20"/>
                <p:cNvSpPr/>
                <p:nvPr/>
              </p:nvSpPr>
              <p:spPr>
                <a:xfrm>
                  <a:off x="7292880" y="3368880"/>
                  <a:ext cx="145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 txBox="1"/>
                <p:nvPr/>
              </p:nvSpPr>
              <p:spPr>
                <a:xfrm>
                  <a:off x="7292880" y="3368880"/>
                  <a:ext cx="14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7432560" y="3367080"/>
                <a:ext cx="360" cy="145440"/>
                <a:chOff x="7432560" y="3367080"/>
                <a:chExt cx="360" cy="145440"/>
              </a:xfrm>
            </p:grpSpPr>
            <p:sp>
              <p:nvSpPr>
                <p:cNvPr id="1197" name="Line 21"/>
                <p:cNvSpPr/>
                <p:nvPr/>
              </p:nvSpPr>
              <p:spPr>
                <a:xfrm>
                  <a:off x="7432560" y="3367080"/>
                  <a:ext cx="0" cy="145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 txBox="1"/>
                <p:nvPr/>
              </p:nvSpPr>
              <p:spPr>
                <a:xfrm>
                  <a:off x="7432560" y="3367080"/>
                  <a:ext cx="360" cy="14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9" name="Group 22"/>
          <p:cNvGrpSpPr/>
          <p:nvPr/>
        </p:nvGrpSpPr>
        <p:grpSpPr>
          <a:xfrm>
            <a:off x="2519280" y="4915080"/>
            <a:ext cx="6117840" cy="1267920"/>
            <a:chOff x="2519280" y="4915080"/>
            <a:chExt cx="6117840" cy="1267920"/>
          </a:xfrm>
        </p:grpSpPr>
        <p:pic>
          <p:nvPicPr>
            <p:cNvPr id="1200" name="Picture 23" descr="00"/>
            <p:cNvPicPr/>
            <p:nvPr/>
          </p:nvPicPr>
          <p:blipFill>
            <a:blip r:embed="rId2"/>
            <a:stretch/>
          </p:blipFill>
          <p:spPr>
            <a:xfrm>
              <a:off x="7452000" y="4941360"/>
              <a:ext cx="1185120" cy="12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Text Box 24"/>
            <p:cNvSpPr/>
            <p:nvPr/>
          </p:nvSpPr>
          <p:spPr>
            <a:xfrm>
              <a:off x="4816080" y="491508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分别画出它们的高并量出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25"/>
            <p:cNvSpPr/>
            <p:nvPr/>
          </p:nvSpPr>
          <p:spPr>
            <a:xfrm>
              <a:off x="2519280" y="4915080"/>
              <a:ext cx="4751640" cy="575280"/>
            </a:xfrm>
            <a:prstGeom prst="wedgeRoundRectCallout">
              <a:avLst>
                <a:gd name="adj1" fmla="val 54208"/>
                <a:gd name="adj2" fmla="val 97078"/>
                <a:gd name="adj3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05:56:24Z</dcterms:created>
  <dc:creator/>
  <dc:description/>
  <dc:language>en-US</dc:language>
  <cp:lastModifiedBy>万润仪器贸易公司</cp:lastModifiedBy>
  <dcterms:modified xsi:type="dcterms:W3CDTF">2020-08-21T08:57:32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